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5867-B41C-4418-B022-B904F5C8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6F29-1488-4177-B008-12D0F4E4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9686-8053-4DF2-BB1C-8111F2E7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593B-96CE-4D34-A1E6-A4246E68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0A9E-B07E-4A01-8969-8D5B463A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43F0-0F5C-4C56-9148-BD87429F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4663-5FEA-454A-B2E1-457BEC31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AA79-7E5B-4E8D-BE63-5AF25D02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66C5-FDE8-4567-BD3D-FE7BC1FA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DE53-3BA9-425D-A780-4F1469D0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CF98-308A-407C-AF97-9572A8E6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2A1F-0361-49DE-BFD1-37A297C9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6218-E07C-4B94-B431-E964A36B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9F29-035F-40E2-8D59-1C0AB976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8E62-1ED2-47C8-B1C8-32DF128F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895F-F8A0-4F21-B01F-1F8F78A2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27C6-8E7E-4305-BFD1-2ACE54CE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83F-0B4B-4B11-989F-F615EAF6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29E0-FBB3-4260-9711-562F1BA4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8657-1EFA-40D2-B052-1FFCF361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F8A0-EAB1-4467-AB65-A3B590E5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9DBF-7996-4746-AE69-4CA9EF49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5322-14F6-4DEF-98E8-46E0BBE3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3E0D-47D6-45AE-BF8F-0EB63583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23B9-512C-4F7D-B93C-314C72BAFB2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8A1D-DE4A-4C17-9B3C-EF55D832364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ir, We Would See Jesus”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9, Lesson 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t. 13:3-53; Mark 4:3-34; Luke 8:5-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56-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6535-EDEE-44BA-8473-7200020602DC}" type="slidenum">
              <a:t>1</a:t>
            </a:fld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arable of the Tares</a:t>
            </a:r>
            <a:br>
              <a:rPr sz="36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Matt. 13:24-30, 36-43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par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interpre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od and evil exists in the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will be a final separation at the harvest time – the judg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ighteous will shine forth in the king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vil to be cast into the furnace of 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1615-CD30-4FD1-8B96-8CCAC47B7495}" type="slidenum">
              <a:t>10</a:t>
            </a:fld>
          </a:p>
        </p:txBody>
      </p:sp>
    </p:spTree>
  </p:cSld>
  <p:transition spd="med">
    <p:zoom dir="in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arable of the Mustard Seed</a:t>
            </a:r>
            <a:br>
              <a:rPr sz="40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Mark 4:30-32; Matt. 13:24-30, 36-43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par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interpre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wth of the king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ortance of little things or small beginn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EAD3-4AD5-465C-8DD8-32ED7DEF32A1}" type="slidenum">
              <a:t>11</a:t>
            </a:fld>
          </a:p>
        </p:txBody>
      </p:sp>
    </p:spTree>
  </p:cSld>
  <p:transition spd="med">
    <p:zoom dir="in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arable of the Leaven</a:t>
            </a:r>
            <a:br>
              <a:rPr sz="40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Mark 4:33-34; Matt. 13:33-35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par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interpre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wth of the king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ven works from with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causes great changes to take 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aggressive; spreads by cont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960C-557D-4478-9A45-BE6F647790B2}" type="slidenum">
              <a:t>12</a:t>
            </a:fld>
          </a:p>
        </p:txBody>
      </p:sp>
    </p:spTree>
  </p:cSld>
  <p:transition spd="med">
    <p:zoom dir="in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arable of the Hidden Treasure</a:t>
            </a:r>
            <a:br>
              <a:rPr sz="40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Matt. 13:44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par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interpre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kingdom is a great trea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crifices are made to obtain the trea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a joy to give up things to gain something far be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1D0B-2230-40CD-9A0E-A18E28A530A9}" type="slidenum">
              <a:t>13</a:t>
            </a:fld>
          </a:p>
        </p:txBody>
      </p:sp>
    </p:spTree>
  </p:cSld>
  <p:transition spd="med">
    <p:zoom dir="in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arable of the Pearl of Great Price</a:t>
            </a:r>
            <a:br>
              <a:rPr sz="40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Matt. 13:45-46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par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interpre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kingdom is of great val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 must have a definite purpose in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k and search for the b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ngs of great value are only obtained at great c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CF80-48BB-4446-B066-F78DB30C596C}" type="slidenum">
              <a:t>14</a:t>
            </a:fld>
          </a:p>
        </p:txBody>
      </p:sp>
    </p:spTree>
  </p:cSld>
  <p:transition spd="med">
    <p:zoom dir="in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9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9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9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9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arable of the Net</a:t>
            </a:r>
            <a:br>
              <a:rPr sz="40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Matt. 13:47-50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par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interpre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ood and the bad will be gathered and separated at the judg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vil will be cast into the furnace of 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CF37-9C5E-4510-A2C6-D1DCF598BD88}" type="slidenum">
              <a:t>15</a:t>
            </a:fld>
          </a:p>
        </p:txBody>
      </p:sp>
    </p:spTree>
  </p:cSld>
  <p:transition spd="med">
    <p:zoom dir="in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arable of the Householder</a:t>
            </a:r>
            <a:br>
              <a:rPr sz="40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Matt. 13:51-53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par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interpre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disciple will use things he knew before becoming a disciple as well as new things learned after becoming a disciple to get the job d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56DA-8FA0-40EF-A6BF-0D1C04E73B6A}" type="slidenum">
              <a:t>16</a:t>
            </a:fld>
          </a:p>
        </p:txBody>
      </p:sp>
    </p:spTree>
  </p:cSld>
  <p:transition spd="med">
    <p:zoom dir="in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he Life of Chris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ars of Prepa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ginning Mini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at Galilean Mini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 of Retir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sing Mini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st We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rr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l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3200400"/>
            <a:ext cx="236232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are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3505320"/>
            <a:ext cx="91440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ABBE-B6F8-4285-9C4C-1B525EB0AB08}" type="slidenum">
              <a:t>2</a:t>
            </a:fld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Great Galilean Ministry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4114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erna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ostles Cal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at Multitu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Mira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mon on the M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Oppos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Para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mited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hn Behea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5029200"/>
            <a:ext cx="236232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are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5334120"/>
            <a:ext cx="213336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2209-FCF0-49BD-B5AA-210257688415}" type="slidenum">
              <a:t>3</a:t>
            </a:fld>
          </a:p>
        </p:txBody>
      </p:sp>
    </p:spTree>
  </p:cSld>
  <p:transition spd="med">
    <p:zoom dir="in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What Is A Parable?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hing cast along beside” for the purpose of comparison, illustration, or ana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earthly story (or saying) with a heavenly meaning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ilar to an allegory where one thing is described under the image of ano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74D-70B5-4EC8-AA4C-662A62A8ABDB}" type="slidenum">
              <a:t>4</a:t>
            </a:fld>
          </a:p>
        </p:txBody>
      </p:sp>
    </p:spTree>
  </p:cSld>
  <p:transition spd="med"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Usage of Parables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re in the Old Test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ver by the apost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ut one-third of Jesus’ teach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used by the writer John; only a few by Ma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describe the kingdom of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describe the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E676-8CDD-4EF6-B913-11B68FA45C94}" type="slidenum">
              <a:t>5</a:t>
            </a:fld>
          </a:p>
        </p:txBody>
      </p:sp>
    </p:spTree>
  </p:cSld>
  <p:transition spd="med">
    <p:zoom dir="in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Interpreting the Parabl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central truth set forth in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main lesson of the stor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it in light of the circumstances of its orig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setting or backgroun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context surrounding its us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f the details do not have to be meaningf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864C-914B-4CCE-9CDF-72FE2CBFD5EA}" type="slidenum">
              <a:t>6</a:t>
            </a:fld>
          </a:p>
        </p:txBody>
      </p:sp>
    </p:spTree>
  </p:cSld>
  <p:transition spd="med">
    <p:zoom dir="in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Why Did Jesus Use Parables?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cause it has been given to you to know the mysteries of the kingdom of heaven, but to them it has not been given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whoever has, to him more will be given, and he will have abundance; but whoever does not have, even what he has will be taken away from him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fore I speak to them in parables, because seeing they do not see, and hearing they do not hear, nor do they understand.”  Matt. 13:11-13 (NKJ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who has ears to hear, let him hear!”  Matt. 13: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8CE6-C5AC-4FD5-BDDE-084DA48C9E6F}" type="slidenum">
              <a:t>7</a:t>
            </a:fld>
          </a:p>
        </p:txBody>
      </p:sp>
    </p:spTree>
  </p:cSld>
  <p:transition spd="med">
    <p:zoom dir="in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arable of the Sower</a:t>
            </a:r>
            <a:br>
              <a:rPr sz="36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Mark 4:3-25; Matt. 13:3-23; Luke 8:5-18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par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interpre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ch of the teaching efforts will go for no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ibility and benefits of a good hear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sons why most people will not receive the W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80A2-F851-46CF-A608-8ED1EA2FB059}" type="slidenum">
              <a:t>8</a:t>
            </a:fld>
          </a:p>
        </p:txBody>
      </p:sp>
    </p:spTree>
  </p:cSld>
  <p:transition spd="med">
    <p:zoom dir="in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arable of the Growing Seed</a:t>
            </a:r>
            <a:br>
              <a:rPr sz="36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Mark 4:26-29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par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interpre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wth of the king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ges of grow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one can explain how things grow, but yet they do – an operation of G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3939-4C61-4F55-A908-2827D3B834F2}" type="slidenum">
              <a:t>9</a:t>
            </a:fld>
          </a:p>
        </p:txBody>
      </p:sp>
    </p:spTree>
  </p:cSld>
  <p:transition spd="med">
    <p:zoom dir="in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02:47:21Z</dcterms:created>
  <dc:creator>Frank D Vines</dc:creator>
  <dc:description/>
  <dc:language>en-US</dc:language>
  <cp:lastModifiedBy>Frank D Vines</cp:lastModifiedBy>
  <dcterms:modified xsi:type="dcterms:W3CDTF">2006-08-27T01:50:50Z</dcterms:modified>
  <cp:revision>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